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D1565-FEC1-47DC-889E-FB3854FA8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46E8F-60D9-44B1-9041-9D127E4B1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C9A87-D8B2-4DB0-B997-CDC8CDD59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AC682-04B2-473D-9843-F7EA81D8A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8C779-5953-4ADC-9810-EFF08590C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1C2FB-B206-4AEF-ACB0-A9CE3A9D5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D5D7B-5B02-4DED-8A81-8E2AB7581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A868E-8482-4198-8F5A-6D6A508F3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AAF9A-5DE0-49A7-9AAE-8D1449274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94CE-8784-45CF-B599-5A2A81087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1E41C-9DA2-42E9-8A89-C65CC68C6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18CA-5C5E-480B-A7C0-C355AD69F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4F57-A4A1-48AF-B173-77A882A595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0" y="2666880"/>
            <a:ext cx="5181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five fabulous creatur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867280" y="5334120"/>
            <a:ext cx="930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3" name=""/>
          <p:cNvSpPr/>
          <p:nvPr/>
        </p:nvSpPr>
        <p:spPr>
          <a:xfrm>
            <a:off x="4708440" y="493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 name=""/>
          <p:cNvSpPr/>
          <p:nvPr/>
        </p:nvSpPr>
        <p:spPr>
          <a:xfrm>
            <a:off x="3277440" y="533520"/>
            <a:ext cx="239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Fairy Armadi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1"/>
          <a:stretch/>
        </p:blipFill>
        <p:spPr>
          <a:xfrm>
            <a:off x="3048120" y="914400"/>
            <a:ext cx="2857320" cy="2143080"/>
          </a:xfrm>
          <a:prstGeom prst="rect">
            <a:avLst/>
          </a:prstGeom>
          <a:ln w="0">
            <a:noFill/>
          </a:ln>
        </p:spPr>
      </p:pic>
      <p:sp>
        <p:nvSpPr>
          <p:cNvPr id="46" name=""/>
          <p:cNvSpPr/>
          <p:nvPr/>
        </p:nvSpPr>
        <p:spPr>
          <a:xfrm>
            <a:off x="1447920" y="3962160"/>
            <a:ext cx="6858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k Fairy Armadillo burrows small holes near ant colonies in dry dirt. It feeds mainly on ants and ant larvae near its burrow. Occasionally it feeds on worms, snails, insects and larvae, or various plant and root material.  It is the smallest spec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867280" y="5334120"/>
            <a:ext cx="930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8" name=""/>
          <p:cNvSpPr/>
          <p:nvPr/>
        </p:nvSpPr>
        <p:spPr>
          <a:xfrm>
            <a:off x="4708440" y="493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9" name=""/>
          <p:cNvSpPr/>
          <p:nvPr/>
        </p:nvSpPr>
        <p:spPr>
          <a:xfrm>
            <a:off x="3277440" y="533520"/>
            <a:ext cx="239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Fairy Armadi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1"/>
          <a:stretch/>
        </p:blipFill>
        <p:spPr>
          <a:xfrm>
            <a:off x="3048120" y="914400"/>
            <a:ext cx="2857320" cy="2143080"/>
          </a:xfrm>
          <a:prstGeom prst="rect">
            <a:avLst/>
          </a:prstGeom>
          <a:ln w="0">
            <a:noFill/>
          </a:ln>
        </p:spPr>
      </p:pic>
      <p:sp>
        <p:nvSpPr>
          <p:cNvPr id="51" name=""/>
          <p:cNvSpPr/>
          <p:nvPr/>
        </p:nvSpPr>
        <p:spPr>
          <a:xfrm>
            <a:off x="1447920" y="3962160"/>
            <a:ext cx="68580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k Fairy Armadillo burrows small holes near ant colonies in dry dirt. It feeds mainly on ants and ant larvae near its burrow. Occasionally it feeds on worms, snails, insects and larvae, or various plant and root material.  It is the smallest speci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867280" y="5334120"/>
            <a:ext cx="9302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4708440" y="4935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4" name=""/>
          <p:cNvSpPr/>
          <p:nvPr/>
        </p:nvSpPr>
        <p:spPr>
          <a:xfrm>
            <a:off x="3277440" y="533520"/>
            <a:ext cx="239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Fairy Armadi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 descr=""/>
          <p:cNvPicPr/>
          <p:nvPr/>
        </p:nvPicPr>
        <p:blipFill>
          <a:blip r:embed="rId1"/>
          <a:stretch/>
        </p:blipFill>
        <p:spPr>
          <a:xfrm>
            <a:off x="3048120" y="914400"/>
            <a:ext cx="2857320" cy="2143080"/>
          </a:xfrm>
          <a:prstGeom prst="rect">
            <a:avLst/>
          </a:prstGeom>
          <a:ln w="0">
            <a:noFill/>
          </a:ln>
        </p:spPr>
      </p:pic>
      <p:sp>
        <p:nvSpPr>
          <p:cNvPr id="56" name=""/>
          <p:cNvSpPr/>
          <p:nvPr/>
        </p:nvSpPr>
        <p:spPr>
          <a:xfrm>
            <a:off x="1295280" y="3962160"/>
            <a:ext cx="71629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nk Fairy Armadillo burrows small holes near ant colonies in dry dirt. It feeds mainly on ants and ant larvae near its burrow. Occasionally it feeds on worms, snails, insects and larvae, or various plant and root material.  It is the smallest species of armadil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6T18:22:52Z</dcterms:created>
  <dc:creator>.</dc:creator>
  <dc:description/>
  <dc:language>en-US</dc:language>
  <cp:lastModifiedBy>.</cp:lastModifiedBy>
  <dcterms:modified xsi:type="dcterms:W3CDTF">2011-11-16T18:32:45Z</dcterms:modified>
  <cp:revision>2</cp:revision>
  <dc:subject/>
  <dc:title>Slide 1</dc:title>
</cp:coreProperties>
</file>